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6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3DB24-2198-4996-9622-ECDFFAEC9088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3972D-C0ED-45BD-B3EB-B0998C692CC9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tor: Dominik Rybcz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CHNB posiada prawo do wykorzystania tego plaka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C274D-C529-412C-951E-4270D687B9DC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braz pochodzi ze strony SANEPI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D1A09-6879-4B30-ABB6-C8098FC5D5B1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A50B1-2CD1-4A89-8BB0-BBC07E160F74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3B6CD-129B-4249-9702-F2D12BD7552E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23BC9-C893-4C87-B824-E7C9B6DA6F2B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tor: Dominik Rybcz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CHNB posiada prawo do wykorzystania tego plaka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0245-D702-4CDE-9E70-0BE198440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EC04-AEB2-4E13-8F65-EB415A25B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DC71-FBC7-4E53-A826-CBE6832C0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D6D1-891E-430A-858E-11AEFEF1C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0A24-1570-4CE7-A44C-0B11FB66B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80A8-E9FE-43DF-AD15-0E6089987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47D0-C739-48CE-ADFF-B2E783302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4236-F941-4F82-99F7-D183B24BA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F13D-2E1D-4329-8E3D-9104724BB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4EF8-627F-4EDD-A09D-3D467E07D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284B-2B42-405A-81C7-8C6D0BE32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8035-E4BD-42DC-9E8A-D21528A39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1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l-PL" sz="5400" spc="-1" strike="noStrike">
                <a:solidFill>
                  <a:srgbClr val="800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35B7F-F4A6-46F6-B847-3C61D7DF1D1A}" type="slidenum">
              <a:rPr b="1" lang="pl-PL" sz="54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borelioza.org/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06720" y="0"/>
            <a:ext cx="493056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9160" y="1238400"/>
            <a:ext cx="8905680" cy="4381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89080" y="144792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BB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89640" y="4800600"/>
            <a:ext cx="24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800080"/>
                </a:solidFill>
                <a:latin typeface="Arial"/>
              </a:rPr>
              <a:t>% przypadków potwierdzonych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80060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800080"/>
                </a:solidFill>
                <a:latin typeface="Arial"/>
              </a:rPr>
              <a:t>Ilość zachorowań na 100.000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04920" cy="274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06160" y="5807160"/>
            <a:ext cx="140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źródło: SANEPID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1680" y="142920"/>
            <a:ext cx="785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W Holandii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w której zamieszkuje połowę mniej ludzi niż w Polsce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co roku diagnozuje się 3-4 razy więcej zachorowań niż w Polsc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1680" y="2428920"/>
            <a:ext cx="8001000" cy="4214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14240" y="357120"/>
            <a:ext cx="7391520" cy="68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 algn="ctr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Jeśli choroba „nie występuje” na jakimś obszarze, to znaczy, że brak tam prawidłowej diagnostyki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Nie ma terenów bezpiecznych, wolnych od zarażonych kleszczy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 algn="ctr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AŁY OBSZAR POLSKI TO TEREN ENDEMICZNY!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2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35240" y="164304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DIAGNOZA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3572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rak całkowicie wiarygodnego testu laboratoryjnego, który pozwoliłby wykluczyć boreliozę, 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onitorować leczenie oraz potwierdzić wyleczeni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iagnoza boreliozy powinna być opart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 objawach klinicznych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8380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371600"/>
            <a:ext cx="789768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86200" y="741240"/>
            <a:ext cx="4122720" cy="340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42960"/>
            <a:ext cx="39290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Jeżeli wystąpi po ukąszeniu przez kleszcza daj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stuprocentową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ewność zarażenia boreliozą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sty laboratoryjne są zbędne!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14760"/>
            <a:ext cx="742968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wykle pojawia się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ciągu miesiąc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 ukąszeniu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asem znacznie później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Utrzymuje się przez kilka tygodni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ypowy rumień w borelioz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- ma średnice ponad 5 cm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- ciemniejszą otoczkę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- powoli blednące od środka wnętrze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- czasami nieco wypukły pierścień otaczając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ęść chorych z rumieniem nie pamięta ukąszenia kleszcz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43760" y="4500720"/>
            <a:ext cx="300024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Czasam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amiast rumienia jest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ietypowa wysypk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lub zaczerwieni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Rumień wędrujący 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Erythrema migrans (EM)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1197000"/>
            <a:ext cx="4025880" cy="4103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1219320"/>
            <a:ext cx="4097520" cy="405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umień występuje czasem również u osób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tóre nie zauważyły ukąszenia przez kleszcz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00760" y="35712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pisywane jest wystąpienie EM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 ukąszeniu owadów krwiopijnych (gzów, pcheł, pluskiew, wszy)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40" y="4500720"/>
            <a:ext cx="419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adania mikrobiologiczne wykazały,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że parę % komarów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zachodniej Polsce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st nosicielami Bb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071960" y="3643200"/>
            <a:ext cx="5072040" cy="2932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57840" y="214200"/>
            <a:ext cx="4008240" cy="3845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5840" y="2500200"/>
            <a:ext cx="9072360" cy="40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Rumień pojawia się tylko u 30-70% zarażonych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można być chorym, choć nie było rumienia!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U dzieci rumień pojawia się rzadziej niż u dorosłych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86280" y="214200"/>
            <a:ext cx="3000600" cy="3009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57920" y="3929040"/>
            <a:ext cx="2987640" cy="2928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14200" y="500040"/>
            <a:ext cx="5572080" cy="72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łoniak limfocytalny, 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zej limfocytoma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Sino-czerwony guzek, który może umiejscowić się na różnych częściach ciała, najczęściej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a płatku usznym, nosie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brodawkach sutkowych, genitaliach.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Dotyczy głównie dzieci i powstaje od kilku tygodni  do kilku miesięcy od momentu ukąszenia.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ie leczony utrzymuje się przez dłuższy czas, nawet kilka lat, i może sam ustąpić.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609480"/>
            <a:ext cx="79250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Największy problem pacjentów z chroniczną boreliozą polega na tym, że są oni najpierw leczeni antybiotykami, po czym dowiadują się, że już są zdrowi  – nawet gdy mają objawy poważnych nawrotów choroby.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W medycynie zaistniał trwały dogmat, że 28 dni dożylnych antybiotyków, bez kontynuacji antybiotykami doustnymi, leczy całkowicie boreliozę.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Tymczasem kluczem do leczenia przewlekłej boreliozy winna być długość leczenia, a nie forma.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Nie chciałbym być w skórze lekarza, który nie wyleczy boreliozy aż do ustąpienia objawów nie wiedząc, że nawroty mogą być znacznie bardziej niebezpieczne od długiego leczenia.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                                                </a:t>
            </a: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Thomas M. Grier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14280"/>
            <a:ext cx="5214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Test ELISA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5-70% wyników fałszywych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577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kluczenie boreliozy na podstawie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jemnego wyniku testu Elis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st powodem wielu ludzkich nieszczęść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680" y="285840"/>
            <a:ext cx="45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Test przesiewowy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2593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928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omimo, że diagnoza boreliozy powinna bazować na objawach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praktyce nie jest stawian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przypadku ujemnego wyniku testu Elis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200" y="642960"/>
            <a:ext cx="892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Błędem jest tez fakt, ze do rozpoznania boreliozy i jej leczeni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nieczny jest dodatni wynik testu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zwłaszcza w kontekście tego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że taki sam wynik testu po leczeniu + zgłaszane objawy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nie są wskazaniem do kontynuowania antybiotykoterapi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3000240"/>
            <a:ext cx="8501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przecza się przewlekłej boreliozie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wierdząc ze objawy późne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 zastosowanej standardowej antybiotykoterapi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o „post Lyme syndrom”, a nie kontynuacja chorob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czy temu obserwacja osób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tóre zaczynają się leczyć po wielu latach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odczuwają poprawę stanu zdrow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71800"/>
            <a:ext cx="9001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W okresie późnym brak potwierdzenia laboratoryjnego choroby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pomimo jej aktywności, 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dotyczy ok. 15% osób chorych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514600" cy="167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428760"/>
            <a:ext cx="58579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Połowa chorych jest seronegatywn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Seronegatywność dotyczy zwykle bardziej chorych pacjentów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9400" y="3995640"/>
            <a:ext cx="671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oreliozę można wykluczyć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podstawie braku odpowiedzi na antybiotykoterapię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rzypadku diagnozy klinicznej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podjęcia próbnej antybiotykoterapii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równo wystąpienie reakcji Herxheimera (herx)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ak i poprawa stanowią potwierdzenie diagnoz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41200"/>
            <a:ext cx="914400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Nieleczona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ub zbyt słabo leczon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czesna borelioz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rzechodzi w przewlekłą postać chorob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eczenie standardow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st najczęściej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zbyt słab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– za krótkie i zbyt niską dawką pojedynczego antybiotyku –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 prowadzi do przejścia choroby w fazę rozsianą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 następnie przewlekłą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przypadku wcześniejszego leczenia standardowego – pacjent jest informowany przez lekarza, że jest już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yleczony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 a objawy które wciąż występują spowodowane są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tzw. zespołem poboreliozowym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 podłożu autoimmunologicznym, który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de facto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st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kontynuacją chorob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85920"/>
            <a:ext cx="5214960" cy="62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bjawy ogólne: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ęczenie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słabienie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ła tolerancja alkoholu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blemy ze snem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y cyklu wypróżnień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óle gardł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óle jąder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y masy ciał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padanie włosów 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trata libido lub sprawności seksualnej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silona choroba lokomocyjn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reszcze, fale gorąc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niżona/podwyższona temperatura ciał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ykliczność objaw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360" y="0"/>
            <a:ext cx="868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Arial"/>
              </a:rPr>
              <a:t>OBJAWY późnych postaci BORELIOZY</a:t>
            </a:r>
            <a:br>
              <a:rPr sz="3200"/>
            </a:b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3680" y="642960"/>
            <a:ext cx="400032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Narząd ruchu: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óle stawów, mięśni, kości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niki mięśniowe (obręcz barkowa),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zeszczenie szyi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tywność  karku, całego kręgosłupa, staw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4960" y="3449520"/>
            <a:ext cx="3392640" cy="278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71920" y="1357200"/>
            <a:ext cx="1522440" cy="1571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2920" y="0"/>
            <a:ext cx="4929120" cy="78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Układ nerwowy: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rętwienia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rażenia nerwów, w tym nerwu twarzowego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óle i zawroty głowy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blemy z pamięcią, koncentracją uwagi,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pady padaczkowe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taki paniki,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gresja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trata czucia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burzenia orientacji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blemy z wymową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pominanie słów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tumanienie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any depresyjne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mienność emocjonalna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dwrażliwość na światło, dźwięki, zapachy, chemikalia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erwobóle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Objawy skórne: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sypk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niki skóry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7840" y="0"/>
            <a:ext cx="401472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Układ krążenia: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chykardia,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ytmia,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koki ciśnieni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loki serc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ardiomiopati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mery w sercu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blemy zastawkow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Narząd wzroku: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ęty, kłaczki w polu widzeni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światłowstręt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palenie spojówki, siatkówki, naczyniówki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wójne i nieostre widzenie,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trata wzroku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71840" y="1857240"/>
            <a:ext cx="2120760" cy="2372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42960"/>
            <a:ext cx="9144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Charakterystyczne jest występowanie objawów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ze strony różnych układów organizmu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związku z tym podział boreliozy na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odmianę stawową, neuroboreliozę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boreliozę serc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ie ma uzasadnienia, bo objawy są zmienne w czas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W przewlekłej boreliozie,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przy silnym układzie immunologicznym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przez wiele lat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objawy mogą być słabonasilone i zmienne.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Po załamaniu układu odpornościowego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(np. po dużym stresie lub na starość)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objawy stają się silne i stał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64296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SPÓŁINFEKCJE  ODKLESZCZOWE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428920"/>
            <a:ext cx="9750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Inne, poza Bb, patogeny przenoszone przez kleszcze: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Arial"/>
              </a:rPr>
              <a:t>Babesia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Arial"/>
              </a:rPr>
              <a:t>Bartonella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Arial"/>
              </a:rPr>
              <a:t>Erlichia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Arial"/>
              </a:rPr>
              <a:t>Mycoplasm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i prawdopodobnie wiele innych, również niepoznanych przez naukę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Babeszioza – zwana „malarią północy”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wywołana przez pierwotniaka z rodzaju BABESIA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071720"/>
            <a:ext cx="410976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e głowy („głowa w imadle”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ty noc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orączk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uchy kaszel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uszność, air hunger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łatwość występowania siniak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zum w uszach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uczucie chłodu, dreszcz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aczerwienienie skór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071720"/>
            <a:ext cx="4495680" cy="41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żywe lub pełne przemocy sn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ysfagia (trudności w przełykaniu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bjawy psychicz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ważne choroby neurologicz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dmierne pragni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męcz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reumatoidalne zapalenie staw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udnośc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łe samopoczuc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iedokrwistość, małopłytkowość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14960"/>
            <a:ext cx="9144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kłada się, że pacjenci z boreliozą i cechami stwardnienia rozsianego (SM), stwardnienia zanikowego bocznego (ALS), chorobą Parkinsona (PD), ciężką chroniczną depresją – cierpią na babesziozę, aż nie udowodni się inaczej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ff0000"/>
                </a:solidFill>
                <a:latin typeface="Arial"/>
              </a:rPr>
              <a:t>W 2008 roku polskie laboratoria zdiagnozowały około 100 przypadków babesziozy</a:t>
            </a:r>
            <a:endParaRPr b="1" lang="en-US" sz="1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BARTONELLOZA = CHOROBA BAKTERYJNA, WYWOŁANA PRZEZ  BLO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1000080"/>
            <a:ext cx="312408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głe zachorowanie po ugryzieniu kleszcz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orączk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tępi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e głowy (kłujące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tofob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achykard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blemy jelitow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 podeszw stóp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iepokój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apalenie wsierdz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retinopat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europatia obwodow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3240" y="1000080"/>
            <a:ext cx="500076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gły nawrót objawów po odstawieniu antybiotyk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sypki, w tym wysypka w postaci pręg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puchnięte staw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większone węzły chłon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blemy psychiatrycz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 VII – X żebr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głe zmiany nastroju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rak reakcji na poprzednio stosowane antybiotyk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6160" y="4975200"/>
            <a:ext cx="2214720" cy="1882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16160" y="2286000"/>
            <a:ext cx="60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KONTROWERSJE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EHRLICHIOZA – CHOROBA WYWOŁANA PRZEZ BAKTERIE Z RODZAJU ERLICHIA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040" y="1785960"/>
            <a:ext cx="835812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męczeni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łe samopoczuci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ukopeni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ól ścięgie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óle głowy (łagodne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gorączki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óle brzuch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odniesione wyniki testów funkcjonowania wątroby, wskazujące na zapalenie wątrob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MYKOPLAZMOZA – WYWOŁANA PRZEZ WEWNĄTRZKOMÓRKOWE BAKTERIE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Z RODZAJU MYCOPLASM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85920" y="1500120"/>
            <a:ext cx="76438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męcz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orączk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ezsenność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e głow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blemy jelitow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padowy katar, łzawienie oczu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kaszel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blemy psychiatrycz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puchlizna i ból staw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rak reakcji na wcześniej stosowane antybiotyk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643040"/>
            <a:ext cx="9144000" cy="22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iezdiagnozowane i nieleczone współinfekcje uniemożliwiają wyleczenie BORELIOZY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57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nfekcje odkleszczow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 reguły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są infekcjami złożonymi, wielopatogenowymi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862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546422"/>
                </a:solidFill>
                <a:latin typeface="Arial"/>
              </a:rPr>
              <a:t>Główny nurt medycyny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546422"/>
                </a:solidFill>
                <a:latin typeface="Arial"/>
              </a:rPr>
              <a:t>zaprzecza istnieniu współinfekcji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546422"/>
                </a:solidFill>
                <a:latin typeface="Arial"/>
              </a:rPr>
              <a:t>w związku z czym nie są one diagnozowane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546422"/>
                </a:solidFill>
                <a:latin typeface="Arial"/>
              </a:rPr>
              <a:t>i leczo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571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tegorie leczenia wg J. Burrascano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ILADS)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5c00"/>
                </a:solidFill>
                <a:latin typeface="Arial"/>
              </a:rPr>
              <a:t>UKĄSZENIE KLESZCZA 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ez objawów choroby z Lyme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Leczenie w oparciu o typ kleszcza, czy pochodził z obszaru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endemii, jak został usunięty i czas przebywania w skórze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Należy pamiętać o możliwości współinfekcj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Dorośli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- terapia doustna 400 mg doksycyliny przez 28 dn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Ciąża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- Amoksycylina 1000 mg co 6 h przez 6 tygodni. Badanie w kierunku babesji, bartonelli i ehrlichii. Alternatywnie - cefuroksym (Zinnat) 1000 mg co 12 h przez 6 tygodn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Małe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dzieci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- doustna terapia przez 28 dn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387026"/>
                </a:solidFill>
                <a:latin typeface="Arial"/>
              </a:rPr>
              <a:t>CHOROBA WCZESNA, ZLOKALIZOWANA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- pojedynczy rumień wędrujący,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ez objawów ogólnoustrojowych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Dorośli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- doustna terapia - minimum leczenia 6 tygodni 400-600 mg doksycykliny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Ciąża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- 1 i 2 trymestr - dożylnie 30 dni, potem doustnie 6 tygodni.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3 trymestr - doustna terapia przez ponad 6 tygodni jak powyżej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W czasie całej ciąży - badanie w kierunku Babesji i Ehrlichii.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Dzieci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- doustna terapia przez ponad 6 tygodni.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78640" y="0"/>
            <a:ext cx="1665360" cy="235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7434360" y="242892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800080"/>
                </a:solidFill>
                <a:latin typeface="Arial"/>
              </a:rPr>
              <a:t>J. Burrascano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1736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CHOROBA ROZSIANA, WCZESNA 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miarkowane objawy obecne krócej niż rok, bez powikłań spowodowanych zaburzeniami immunologicznym oraz bez uprzedniego leczenia sterydam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orośli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terapia doustna do ustąpienia objawów + 1-2 miesiące (zwykle 4 do 6 miesięcy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2.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Ciąża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jak w chorobie zlokalizowanej, ale należy leczyć przez całą ciążę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3.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zieci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- doustna terapia której czas trwania opiera się o odpowiedź kliniczną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ALTERNATYWA POZAJELITOWA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la bardziej chorych pacjentów i dla tych, którzy nie tolerują doustnych antybiotyków albo nie mają po nich odpowiedzi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1.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orośli i dzieci 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terapia dożylna do czasu wyraźnej poprawy, co najmniej 6 tygodni. Następnie terapia doustna albo domięśniowo debecylina do czasu, aż nie będzie objawów aktywnej choroby przez 6 - 8 tygodni. Terapia dożylna może być powtórzona, o ile terapia doustna, albo domięśniowa zawiedzie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2.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Ciąża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ożylne leczenie a potem doustne - tak jak powyżej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8760" y="285840"/>
            <a:ext cx="8215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CHOROBA PRZEWLEKŁA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- obecna dłużej niż 1 rok, bardziej chorzy pacjenci i uprzednio leczeni sterydami albo z zaburzoną innymi przyczynami immunologią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orośli i ciąża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- rozszerzona terapia dożylna (14 albo więcej tygodni), potem doustnie albo domięśniowo do zaniku wszystkich objawów chorobowych  + 6-8 tygodni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Terapia złożona z przynajmniej 2 rożnych antybiotyków prawie zawsze jest konieczna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zieci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 - dożylna terapia przez przynajmniej 6 tygodni, następnie terapia doustna albo domięśniowa jak powyżej. Zwykle jest potrzebna terapia złożona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500880" y="4643280"/>
            <a:ext cx="2643120" cy="221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28760" y="5000760"/>
            <a:ext cx="600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46422"/>
                </a:solidFill>
                <a:latin typeface="Arial"/>
              </a:rPr>
              <a:t>Konieczne suplementy wzmacniające układ odpornościowy i wątrobę oraz dieta przecigrzybicza i wysokiej jakości probiotyki.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46422"/>
                </a:solidFill>
                <a:latin typeface="Arial"/>
              </a:rPr>
              <a:t>Wskazana aktywność fizyczna i/lub rehabilitacja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46422"/>
                </a:solidFill>
                <a:latin typeface="Arial"/>
              </a:rPr>
              <a:t>Badania kontrolne co miesiąc: morfologia krwi, próby wątrobowe, amylaza, kreatynina, badanie ogólne moczu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46422"/>
                </a:solidFill>
                <a:latin typeface="Arial"/>
              </a:rPr>
              <a:t>Co 3 miesiace: USG jamy brzusznej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Z CZEGO WYNIKAJĄ TRUDNOŚCI W LECZENIU?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071720"/>
            <a:ext cx="82296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rak testu umożliwiającego monitoring leczenia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Koinfekcje odkleszczow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erlichia, babesja, bartonella, mykoplazmy i inne, co znacznie utrudnia leczenie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limorfizm bakterii, przebywanie bakterii poza barierą krew-mózg i w miejscach trudno dostępnych dla antybiotyków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kcja Herxheimer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ożliwość uszkodzenia wątrob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ukopeni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grożenie grzybicą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zrozumienie ze strony służby zdrowia, często również rodzin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sokie koszt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5840" y="1071720"/>
            <a:ext cx="88581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Często jest mylnie diagnozowana jako: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erwic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wardnienie rozsiane (SM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wardnienie zanikowe boczne (ALS lub SLA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espół przewlekłego zmęczeni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adaczk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epresj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umatyczne zapalenie stawów i choroby tkanki łącznej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horoby z autoagresji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horoba Alzheimer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horoba Parkinson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ibromialgi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85920" y="214200"/>
            <a:ext cx="61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Arial"/>
              </a:rPr>
              <a:t>Borelioza – wielki imitator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47149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bowiązujący standard diagnostyki i leczenia boreliozy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arty na wytycznych europejskich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tóre jako podstawę mają wytyczne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 USA opracowane przez IDS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57720"/>
            <a:ext cx="914400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W USA w maju 2008 wytyczne te zostały zakwestionowane, a ich twórcom zarzucono działanie na szkodę osób chorych na boreliozę i inne choroby odkleszczowe oraz korupcyjne działanie na  korzyść firm ubezpieczeniowych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Od lipca 2009 w stanach wschodniego wybrzeża USA zostało zalegalizowane długoterminowe leczenie chorób odkleszczowych, a firmy ubezpieczeniowe są zobligowane do refundacji koszt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Obecnie trwają wspólne prace IDSA i ILADS dla wypracowania standardów leczen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40080" cy="2857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1932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Chorzy powinni wiedzieć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o istniejących  w medycynie kontrowersjach na temat boreliozy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i zgodnie z prawami pacjenta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wybierać sposób leczenia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5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nfectious Disease Society of America (IDSA)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nternational 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Lyme and Associated Diseases Society (ILADS)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0240" y="3714840"/>
            <a:ext cx="2880000" cy="274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3740040"/>
            <a:ext cx="51055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Uzyskało status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Organizacji Pożytku Publicznego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(możliwość pozyskiwania 1% podatku)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29000" y="1447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STOWARZYSZENIE CHORYCH NA BORELIOZĘ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5880" y="3809880"/>
            <a:ext cx="2511720" cy="2457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457200"/>
            <a:ext cx="8686800" cy="77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Arial"/>
              </a:rPr>
              <a:t>Kontakt ze Stowarzyszeniem: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e-mail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towarzyszenie.borelioza@gmail.com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lub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lymepoland@gmail.com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Tel. kom.: </a:t>
            </a:r>
            <a:r>
              <a:rPr b="1" lang="pl-PL" sz="2800" spc="-1" strike="noStrike">
                <a:solidFill>
                  <a:srgbClr val="004800"/>
                </a:solidFill>
                <a:latin typeface="Arial"/>
              </a:rPr>
              <a:t>692 890 751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Zapisz się - ta organizacja reprezentuje także i Ciebi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borelioza.org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4800"/>
                </a:solidFill>
                <a:latin typeface="Arial"/>
              </a:rPr>
              <a:t>Punkt informacyjny we Wrocławiu: wroclaw@borelioza.or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8592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28800"/>
            <a:ext cx="5786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głównym nurcie medycyn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bowiązuje pogląd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że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borelioza jest chorobą rzadką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łatwą do zdiagnozowania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 równie łatwą do wyleczenia miesięczną monoterapią antybiotykową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8620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Żadna z tych tez nie jest prawdziwa!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320760"/>
            <a:ext cx="3249720" cy="632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24080" y="6094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STOWARZYSZENIE CHORYCH NA BORELIOZĘ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133720"/>
            <a:ext cx="853452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 na rzecz chorych na boreliozę (zwłaszcza w stadium późnym) i ich rodzin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dejmuje działania w celu zwrócenia uwagi decydentów oraz środowisk medycznych, na problemy z diagnostyką i leczeniem tej choroby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Śledzi najnowsze postępy w profilaktyce, diagnostyce           i leczeniu boreliozy i stara się informować o nich opinię publiczną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ara się budować w społeczeństwie świadomość zagrożenia, wynikającego z chorób przenoszonych przez kleszcze, w tym przede wszystkim boreliozy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st Stowarzyszeniem ogólnopolskim, zrzeszającym chorych i członków ich rodzin z terenu całej Polski.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ostało wpisane do rejestru na początku 2007 roku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4280" y="1571760"/>
            <a:ext cx="701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SKALA  PROBLEMU A  STATYSTYKI      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W POLSCE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64240" cy="578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4200" y="0"/>
            <a:ext cx="85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Zachorowania na boreliozę zgłoszone w latach 1996-2009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(dane PZH, Warszawa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5840" y="785880"/>
            <a:ext cx="85723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chorowalność w 2004    10     osób/100 000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2007     20,3 osób/100 000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(dane mogą być zaniżone nawet 10-krotnie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tymczasem za naszą południową granicą...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8:21:05Z</dcterms:created>
  <dc:creator>User</dc:creator>
  <dc:description/>
  <dc:language>en-US</dc:language>
  <cp:lastModifiedBy>PC</cp:lastModifiedBy>
  <dcterms:modified xsi:type="dcterms:W3CDTF">2010-04-02T09:25:03Z</dcterms:modified>
  <cp:revision>273</cp:revision>
  <dc:subject/>
  <dc:title>Prezentacja programu PowerPoint</dc:title>
</cp:coreProperties>
</file>